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F936-A6C0-4B7D-A80C-E564B6A67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BECE-026B-4603-B2C6-6B2D4BD1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A098-B0E3-4743-96A6-CB75AC03D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794A-8982-450A-B347-1CB3771CE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7EAF-0555-4F6F-A048-01982C61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C9CE-AB94-4E70-A156-7FF99080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53FB-D534-4FA7-9A15-AF0DE1CC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5408-ADCD-433D-80AC-7287DE54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A623-A3E5-48A0-A5C7-6CAEF357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B1CC-2BE5-4A65-BEA2-AAC99435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445E-6DDC-4EC0-8891-D7D52CFB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89AA-AFE9-47A8-B47A-54034569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A8AB-288F-4DD6-A205-872EA2FE3F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ринципи деловања психостимулативних супстанц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898989"/>
                </a:solidFill>
                <a:latin typeface="Calibri"/>
              </a:rPr>
              <a:t>Модул: 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898989"/>
                </a:solidFill>
                <a:latin typeface="Calibri"/>
              </a:rPr>
              <a:t>Недеља:10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898989"/>
                </a:solidFill>
                <a:latin typeface="Calibri"/>
              </a:rPr>
              <a:t>Проф др Мирјана Јовановић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898989"/>
                </a:solidFill>
                <a:latin typeface="Calibri"/>
              </a:rPr>
              <a:t>201</a:t>
            </a:r>
            <a:r>
              <a:rPr b="0" lang="sr-Latn-RS" sz="2700" spc="-1" strike="noStrike">
                <a:solidFill>
                  <a:srgbClr val="898989"/>
                </a:solidFill>
                <a:latin typeface="Calibri"/>
              </a:rPr>
              <a:t>7</a:t>
            </a:r>
            <a:r>
              <a:rPr b="0" lang="sr-CS" sz="27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Употреба у медици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ва научна студија о амфетамину урађена је 1935.године од стране М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thanson-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екара из Лос Анђелес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упстанцу је тестирао на 55 младих медицинских радника дајући им по 20мг Бензендрин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ва најчешће описивана ефекта била су „осећање благостања и осећај усхићења“.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ензедрин (ДЛ-амфетамин) , представљан је као лек за многе болест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Употреба у медици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скоро је слична студија рађена и у Данској 1938.године када је тестирана на 100 субјеката и истраживачи су били импресионирани појачаном жељом субјеката да раде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али број је говорио о нежељеним ефектима и то углавном органске природе као што су испади периферног нервног система, укључујући сува уста,палпитације, главобоља и слабост мишић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Употреба у медици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пак, убрзо је амфетамин са различитим варијацијама сродних хемикалија нашао своје место на тржишту као супресор апетита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кон првог случаја амфетаминске психозе ( 1938. године ) почиње се са размишљањем о штетним последицама и зависности насталој употребом амфетами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Употреба у медици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ча везана за третман гојазности- комбинација амфетамина и фенфлурамина завршила се трагично шездесетих и седамдесетих година прошлог века -хиљадама превремених смрти и оштећења срца и покренула је највећи број приватних тужби у историји фармацеутских компаниј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Употреба у медици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исоке дозе амфетамина воде привременој психози која подсећа на схизофрену епизоду у много аспекат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опаминска хипотеза указује на то да су и дрогом-индикована психоза и схизофрена психоза повезане са ексцесивним ослобађањем хемијског месинџера допамина у мозг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нтипсихотици делују обрнуто-блокирају активност допамин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авремена употреба у медици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к медицинска употреба амфетамина опада последњих година, драматично расте код деце која болују од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HD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ва најпознатија продукта су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talin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метилфенидат) 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eral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мешавина соли амфетамина) чија продаја расте за по 20% на годишњем ниво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авремена употреб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радоксално је да се дрога која се сматра високо ризичном код одраслих, прихвата као лек за децу и на узрасту од три годин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о 3 до 5% деце у САД имају дијагностикован поремећај пажње што значи да у сваком разреду од 25 до 30 деце бар једно има дијагностикован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HD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авремена употреб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мфетамини се користе као лекови првог избора у третману деце оболеле од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HD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синдром поремећаја пажње и хиперактивности (метилфенидат , декстроамфетамин или пемолин)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ако је у порасту употреба ових лекова и даље постоје контроверзе обзиром на широку примену код предшколске и школске дец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авремена употреб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матра се да су ови лекови безбедни уколико се користе у препорученим дозам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жељени ефекти се огледају на плану понашања у смислу стереотипних понављајућих образаца а то укључује абнормалне покрете тела , персеверативно / компулзивно понашање, грицкање усана, лизање усана, трљање очију или лица, трзаји главом, трептање итд.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onard et a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200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Ефекти након узима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ависник користи све веће дозе да би постигао ефекат „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ash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“-а кога често описују као оргазам целог тела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Жеља да се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ash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поново доживи води ка сталном повећању дозе и повећаном ефекту кумулативне дозе што се назива „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peeding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“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акво стање траје и неколико дана,без сна и без јела и након тога се зависник „руши“ у дубок сан који може да траје и 18 сати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новљен „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peeding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“ води до озбиљних облика зависности или психозе која се карактерише исцрпљеношћу, продуженим сном и последично дисфоричном летаргијо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Психоактивне супстанц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ма основним карактеристикама деловања у иницијалној фази све супстанце можемо поделити на оне с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c0aaf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bc0aaf"/>
                </a:solidFill>
                <a:latin typeface="Calibri"/>
              </a:rPr>
              <a:t>-седативним и у фармаколошком смислу- депресивним дејством (барбитурати,опијати,етил алкохол,БДЗ ).</a:t>
            </a:r>
            <a:br>
              <a:rPr sz="2400"/>
            </a:br>
            <a:r>
              <a:rPr b="0" lang="ru-RU" sz="2400" spc="-1" strike="noStrike">
                <a:solidFill>
                  <a:srgbClr val="bc0aaf"/>
                </a:solidFill>
                <a:latin typeface="Calibri"/>
              </a:rPr>
              <a:t>-стимулативним деловањем ( амфетамин,кокаин,ПЦП )</a:t>
            </a:r>
            <a:br>
              <a:rPr sz="2400"/>
            </a:br>
            <a:r>
              <a:rPr b="0" lang="ru-RU" sz="2400" spc="-1" strike="noStrike">
                <a:solidFill>
                  <a:srgbClr val="bc0aaf"/>
                </a:solidFill>
                <a:latin typeface="Calibri"/>
              </a:rPr>
              <a:t>-психотомиметике ( халуциногени,канабиноиди 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ве групе супстанци се међусобно разликују по деловању на сензоријум,моторику,емоционалност и доживљај спољашње реалности,али у основном процесу формирања зависности,ангажују исте,неспецифичне механизме из постојећег система организације,мотивације и понашања(норадренергичке,допаминергичке,опиоидн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amph1 copy"/>
          <p:cNvPicPr/>
          <p:nvPr/>
        </p:nvPicPr>
        <p:blipFill>
          <a:blip r:embed="rId1"/>
          <a:srcRect l="0" t="0" r="11113" b="0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449640" y="5384880"/>
            <a:ext cx="5987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Calibri"/>
              </a:rPr>
              <a:t>Деловање амфетамина и метамфетамина је врло слич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Calibri"/>
              </a:rPr>
              <a:t>тако да их и конзументи тешко разлику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Растворљивост амфетам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мфетамини имају готово идеалну комбинацију растворљивости у води и мастима што значи да могу бити администрирани на различите начине и врло брзо продиру у централни нервни сист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етаболизам амфетам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крвотоку остају дуго-полувреме елиминције износи 6-12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-метамфетамин остаје у крвотоку најдуже-полувреме елиминације износи 11-12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организам се уноси у различитим облицима. Начин апликације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niff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овање - назално ушмркавање, орално,инхалацијом пара при загревању и парентералном применом ( и.в 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Облици амфетам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илегалном тржишту се појављује у две форме:</a:t>
            </a:r>
            <a:br>
              <a:rPr sz="3200"/>
            </a:br>
            <a:r>
              <a:rPr b="0" lang="ru-RU" sz="3200" spc="-1" strike="noStrike">
                <a:solidFill>
                  <a:srgbClr val="bc0aaf"/>
                </a:solidFill>
                <a:latin typeface="Calibri"/>
              </a:rPr>
              <a:t>обичан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у форми пудера или комада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unk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, у разнобојним нијансама од беле до тамно браон боје,различите конзистенције и квалитета ( на улици познат као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ed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ip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 flash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unk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3200"/>
            </a:br>
            <a:r>
              <a:rPr b="0" lang="ru-RU" sz="3200" spc="-1" strike="noStrike">
                <a:solidFill>
                  <a:srgbClr val="bc0aaf"/>
                </a:solidFill>
                <a:latin typeface="Calibri"/>
              </a:rPr>
              <a:t>кристалн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у форми кристалног прашка који је чист или провидан ( на улици познат као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c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usta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ass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ICE"/>
          <p:cNvPicPr/>
          <p:nvPr/>
        </p:nvPicPr>
        <p:blipFill>
          <a:blip r:embed="rId1"/>
          <a:srcRect l="0" t="8499" r="5512" b="150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2362320" y="380880"/>
            <a:ext cx="6476760" cy="914760"/>
          </a:xfrm>
          <a:prstGeom prst="rect">
            <a:avLst/>
          </a:prstGeom>
          <a:solidFill>
            <a:srgbClr val="00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Ice” </a:t>
            </a:r>
            <a:r>
              <a:rPr b="1" i="1" lang="sr-CS" sz="1800" spc="-1" strike="noStrike">
                <a:solidFill>
                  <a:srgbClr val="000000"/>
                </a:solidFill>
                <a:latin typeface="Calibri"/>
              </a:rPr>
              <a:t>је улично име за кристалну фор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D-</a:t>
            </a:r>
            <a:r>
              <a:rPr b="1" i="1" lang="sr-CS" sz="1800" spc="-1" strike="noStrike">
                <a:solidFill>
                  <a:srgbClr val="000000"/>
                </a:solidFill>
                <a:latin typeface="Calibri"/>
              </a:rPr>
              <a:t>метамфетамина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i="1" lang="sr-CS" sz="1800" spc="-1" strike="noStrike">
                <a:solidFill>
                  <a:srgbClr val="000000"/>
                </a:solidFill>
                <a:latin typeface="Calibri"/>
              </a:rPr>
              <a:t>Име је добио по изгледу-конзумира се пушењ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На који начин делуј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мфетамини су хемијски повезани са природним катехоламинима као што су норадреналин и допамин.Они утичу на њихово ослобађањ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периферним ткивима амфетамини стимулишу ослобађање норадреналина из нервних завршетака симпатичког нервног систе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На који начин делуј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рвне ћелије у мозгу које складиште и ослобађају норадреналин ,играју различите улоге као што је, на пример , помоћ у обавештавању виших центара о новим збивањима у спољашњем свету као и меморисању нових информација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лиска супстанца допамин је прекурсор у биосинтези норадреналина али је такође и хемијски месинџ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Деловање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слобађање допамина у базалној ганглији игра виталну улогу у контроли вољних покрета . Пацијенти са Паркинсоновом болешћу имају селективни губитак ћелија које садрже допамин и тешко иницирају покрет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мфетамини делују на когнитивне функције,пре свега на пажњу тј. на вигилност пажње и о томе сведочи чак 8 од 12 студија (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oelega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,1993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Деловање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ноге студије указују да до поремећаја когнитивних и моторних функција долази због депривације спавања коју амфетамин изази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траживање из 1989. године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hous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 показало је да супресија спавања са већим дозама амфетамина може да се одржи и до 60 са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Деловање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мфетамини драматично смањују поспаност,повећавају латенцу уснивања и латенцу појаве рапидних очних покрета- РЕМ фазу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swald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,1968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акође,високе дозе амфетамина доводе до нежељених ефеката на кардиоваскуларном систему (тахикардија и повишење крвног притиск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Класифика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SM-IV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ласификацији супстанце су подељене на следећих 11 класа: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1.Опиоиди ( опијум,морфин,хероин,меперидин,метадон,пентазоцин )</a:t>
            </a:r>
            <a:br>
              <a:rPr sz="2000"/>
            </a:br>
            <a:r>
              <a:rPr b="0" lang="sr-CS" sz="2000" spc="-1" strike="noStrike">
                <a:solidFill>
                  <a:srgbClr val="bc0aaf"/>
                </a:solidFill>
                <a:latin typeface="Calibri"/>
              </a:rPr>
              <a:t>2.Амфетамини и сличне материје са симпатикомиметским дејством,укључујући и кокаин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3.Халуциногени ( ЛСД,псилоцибин,мескалин,ДЕТ,ДМТ,ДОМ или СТП,МДА )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4.ПЦП и слични арилциклохексиламини,укључујући кетамин,ТЦП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5.Депресори ЦНС-а ( барбитурати,БДЗ,мепробамат,глутамид )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6.Канабиноиди ( хашиш,марихуана )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7.Испарљиви растварачи и деривати петролеума (ацетон,лепак,бензен,бензин,аеросоли...) и други инхаланси-азот моноксид и сл.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8.Алкалоиди беладоне ( атропин,скополамин,хоматропин,семе мака...)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9.Алкохол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10.Никотин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11.Кофе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Деловање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ришћењем имиџинг техника и психолошким тестирањима радне меморије дошло се до закључка да Д-амфетамин побољшава функцију мозга само код субјеката са релативно ниским радним капацитетом меморије н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seline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-у али да погоршава капацитет меморије код субјеката са базично већим могућностима радне меморије (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tay 2003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Деловање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обе које злоупотребљавају амфетамине развијају многа репетитивна понашања као што је понављано прање кола,чишћење куће,сортирање малих објеката,потреба за растављањем и поновним састављањем уређаја као што су радио-пријемници ,сатови или друге механичке направе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amph2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2347920" y="5297400"/>
            <a:ext cx="18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254960" y="5457960"/>
            <a:ext cx="5964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Amfetamin stimulira CNS i izaziva euforij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Prekomerna doza može pak izazvati  jak osećaj pani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Врсте амфетам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стоје три групе амфетамина и њему сродних супстанци:</a:t>
            </a:r>
            <a:br>
              <a:rPr sz="3000"/>
            </a:b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-Главни амфетамини -амфетамин , декстроамфетамин ,метамфетамин, метилфенидат, пемолин</a:t>
            </a:r>
            <a:br>
              <a:rPr sz="3000"/>
            </a:b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-Амфетамину сличне супстанце -ефедрин , фенилпропраноламин ,кхат и меткатинон ( кранк )</a:t>
            </a:r>
            <a:br>
              <a:rPr sz="3000"/>
            </a:b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-Синтетички амфетамини ( класификовани као халуциногени )-ецтас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y (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ДМА, » Адам «) , МДЕА ( « Ева « 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Елимина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Ренална екскреција:</a:t>
            </a:r>
            <a:br>
              <a:rPr sz="2700"/>
            </a:b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Амфетамин је базна , високо липосолубилна супстанца , и примарни начин екскреције је непромењено излучивање преко бубрег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Ренална екскреција је строго детерминисана са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H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 урина.</a:t>
            </a:r>
            <a:br>
              <a:rPr sz="2700"/>
            </a:b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а урином који има оповећану киселост,напр.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H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 5, приближно 99% дозе амфетамина се јонизује путем гломерулне филтрације и само преостали нејонизовани део одлази у циркулациј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ема томе, третман амфетаминског предозирања је ацедификовање урина ( повећање киселости 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Токсично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c0a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c0aaf"/>
                </a:solidFill>
                <a:latin typeface="Calibri"/>
              </a:rPr>
              <a:t>Централна токсичност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изазива неуротоксичност уз помоћ слободних радикала-реактивног кисеоника и азо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мфетамин продире у допаминергичке или серотонергичке неуроне преко посебног транспортера и потискује везикуларни и цитозимски неуротрансмите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Токсичнос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c0a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c0aaf"/>
                </a:solidFill>
                <a:latin typeface="Calibri"/>
              </a:rPr>
              <a:t>Периферна токсичност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кардиоваскуларни ефекти деловања амфетамина су тренут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мфетамин подиже систолни и дијастолни крвни притисак и успорава рад срца-ипак код великих доза амфетамина нису ретке тахикардија и аритмиј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кође , доводе и до периферне хипертермије путем активације симпатичко-адреналног систе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Злоупотреба и зависно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кон пролонгиране интермитентне конзумације- корисник открива да веће дозе производе веће ефекте и индивидуа почиње редовно да конзумира веће доз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иста, пре развоја толеранције , еуфорични ефекти стимуланса пропорционални су плазма нивоима амфетамина.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 овој фази особа понавља често узимање дроге,тако да долази до честих промена расположења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Третм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веобухватан приступ особи која је зависник од амфетамина са психолошког,медицинског и форензичког аспекта може бити отежан,због тога што су информације често непотпуне или непоуздане.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 сваком случају,неопходно је учинити соматске претраге, лабораторијско тестирање укључујући и супервизирано тестирање урина на дроге због потенцијалне политоксикоманиј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Хвала на пажњи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amph3 copy"/>
          <p:cNvPicPr/>
          <p:nvPr/>
        </p:nvPicPr>
        <p:blipFill>
          <a:blip r:embed="rId1"/>
          <a:srcRect l="13333" t="12140" r="6669" b="385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"/>
          <p:cNvSpPr/>
          <p:nvPr/>
        </p:nvSpPr>
        <p:spPr>
          <a:xfrm>
            <a:off x="-68040" y="304920"/>
            <a:ext cx="7341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8000" spc="-1" strike="noStrike">
                <a:solidFill>
                  <a:srgbClr val="ff0000"/>
                </a:solidFill>
                <a:latin typeface="Staccato222 BT"/>
              </a:rPr>
              <a:t>Амфетамин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-120960" y="4068720"/>
            <a:ext cx="7463880" cy="19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4000" spc="-1" strike="noStrike">
                <a:solidFill>
                  <a:srgbClr val="ffffff"/>
                </a:solidFill>
                <a:latin typeface="Calibri"/>
              </a:rPr>
              <a:t>Заједничко име за</a:t>
            </a:r>
            <a:r>
              <a:rPr b="0" i="1" lang="en-US" sz="40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Staccato222 BT"/>
              </a:rPr>
              <a:t>Амфетамин и метамфетам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тимуланс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сим кокаина који је природни представник групе психоактивних супстанци са стимулативним својствима, данас на нарко-тржишту постоји више хиљада врста тзв.ДИЗАЈНИРАНИХ ДРОГА- „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signer drugs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“ које се од класичних дрога разликују по свом порекл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о су синтетски препарати који настају модификацијама молекула познатих дрога и јефтиније су на тржишт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не су продукт илегалних лабораторија и тзв.“ кухињских хемичар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Амфетамини-карактеристи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Синтетишу се у немедицинске сврхе,а обликоване су у форми праха, таблета или капсула и имају стимулативно али и депресивно дејство.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есто имају непријатне и потенцијално леталне нежељене ефекте, а ако се у некој фази припреме супстанца прегреје или лошије обради добија се летални отров.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 ове супстанце спадају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Ectasy, China, White, X, Persian, Adam, Eve, XTC, Tango&amp;Crac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Фармаколог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мфетамин је психостимуланс који делује повећањем централне активности путем повећаног отпуштања( новосинтетисаних ) норадреналина и допамина из пресинаптичких нервних завршетака, на који се затим суперпонира блокада преузимања већ излучених неуротрансмитер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Фармакологи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 већим дозама индукује и ослобађање серотонина,а има и директан агонистички ефекат на неке од многобројних 5-ХТ рецептор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елике дозе амфетамина такође снижавају активност тирозин-хидроксилазе.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ви синтеза-сензитивни механизми разликују код осталих стимуланаса , као што су метилфенидат и кокаин, који делују кроз депое, а не на новосинтетисане катехоламине , какав је случај код амфетами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Употреба у медици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 клиничку праксу амфетамин је уведен раних 30-их година 20. век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Бројна истраживања деловања амфетамина извођена су како на животињама,тако и на људим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сихостимулантна својства амфетамина открио је британски хемичар Гордон Алес који је супстанцу синтетисао и тестирао на животињама али и на себи (1928.године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рло брзо је открио да амфетамин моћно делује уклањајући замор и производећи еуфорични ефекат и буднос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1:33:51Z</dcterms:created>
  <dc:creator>Minja</dc:creator>
  <dc:description/>
  <dc:language>en-US</dc:language>
  <cp:lastModifiedBy>Minja</cp:lastModifiedBy>
  <dcterms:modified xsi:type="dcterms:W3CDTF">2017-01-30T22:45:30Z</dcterms:modified>
  <cp:revision>12</cp:revision>
  <dc:subject/>
  <dc:title>Принципи деловања психостимулативних супстанци</dc:title>
</cp:coreProperties>
</file>