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6F8F-113D-4358-85A1-58C214D2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D85-020D-40B6-B1FD-849E6253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1BE-1B18-4771-B153-580DC69D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286-0652-4F3E-90FE-81F421DF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902-23F0-42C7-9751-F3852C2C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C45-A80F-46DA-99BE-4084D72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BC7-DC55-42C3-805B-D2DEFAD4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973-50E7-4BC3-8A2B-B6C238AB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E81-CF6B-4FC0-A89E-42A1A3BD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33E-CC95-432B-AE46-B1A71DA4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BD2-740A-4841-9ADE-12E6F83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016-8BF9-483A-8920-760BCD7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3479-AC17-494C-804D-C39809AE07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Десе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деља настав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12 - ЗЛОУПОТРЕБА И ЗАВИСНОСТ ОД ЛЕКОВА И ПАС 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457200" y="3733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тимулан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ва научна студија о амфетамину урађена је 1935.године од стране М.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athanson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лекара из Лос Анђелес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пстанцу је тестирао на 55 младих медицинских радника дајући им по 20мг Бензенд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најчешће описивана ефекта била су „осећање благостања и осећај усхићења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нзедрин (ДЛ-амфетамин), представљан је као лек за многе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коро је слична студија рађена и у Данској 1938.године када је тестирана на 100 субјеката и истраживачи су били импресионирани појачаном жељом субјеката да р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ли број је говорио о нежељеним ефектима и то углавном органске природе као што су испади периферног нервног система, укључујући сува уста, палпитације, главобоља и слабост мишић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пак, убрзо је амфетамин са различитим варијацијама сродних хемикалија нашао своје место на тржишту као супресор апети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кон првог случаја амфетаминске психозе (1938. године) почиње се са размишљањем о штетним последицама и зависности насталој употребом амфетам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ч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з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јазност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бин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енфлур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рш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г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ездесе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дамдесе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шл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хиљад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време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р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рену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ат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уж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ор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цеутс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пан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реме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сећ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изофре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пизод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сп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е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ков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изофр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ксцесив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ј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синџе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типсихоти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рну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оки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не студије код редовних корисника амфетамина показале су  смањење еуфоричног и стимулативног  ефекта код особа које су добијале антипсихотике- пимозид и хлорпромаз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тале студије нису биле толико убедљиве што се објашњава тиме  да лек-антагонист који се користи у лечењу схизофреније не доводи до комплетне блокаде Д2-рецептора у моз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зависне технике показују да ови лекови окупирају 60 – 80% допаминских рецепт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о вероватно није било довољно да неутралише моћан талас ослобађања допамина у мозг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отреба већих доза пимозида и хлорпромазина  у хуманим студијама била је немогућа из етичких разлога узимајући у обзир непријатне и потенцијално озбиљне нежељене ефек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акти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а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виду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ријат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виду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какв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ксиоз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уфор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но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биолош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о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нз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нет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Lott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је 2005.године је истраживао одговор на две дозе амфетамина 10 и 20 мг , насупрот плацебу, код 101 младог здравог добровољца оба по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орци крви узети због ДНА анализа указали су на минорну генетски детерминисану варијацију у гену који кодира транспортни протеин за допа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52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тврђено је да особе које поседују две копије (свака од по једног родитеља) „9-понављајуће“ верзије гена –немају субјективан одговор на дрогу, било да је реч о еуфорији или о анксиоз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 ову верзију гена важи да доводи  смањене експресије транспортног протеина допамина који је  кључна мета за ефекте амфетам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актив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ма основним карактеристикама деловања у иницијалној фази све супстанце можемо поделити на оне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дативним и у фармаколошком смислу - депресивним дејством (барбитурати, опијати, етил алкохол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Z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имулативним деловањем (амфетамин, кокаин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сихотомиметике (халуциногени, канабиноид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ве групе супстанци се међусобно разликују по деловању на сензоријум, моторику, емоционалност и доживљај спољашње реалности, али у основном процесу формирања зависности, ангажују исте, неспецифичне механизме из постојећег система организације, мотивације и понашања (норадренергичке, допаминергичке, опиоидн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Volkow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сарадници су 2003.године објавили да особе које доживе задовољство приликом узимања амфетамина имају мањи број Д2 рецептора у мозгу, сугеришући могућност да њихов допамински систем „профитира“ од дрогом-индуковане подрш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рмони такође могу утицати на субјективни одговор на амфетам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раживања су показала да су жене знатно осетљивије на амфетамине у фоликуларној фази него у лутеалној фази обзиром на ниво естрадио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White et al.2002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 медицинска употреба амфетамина опада последњих година, драматично расте код деце која болују од АДХ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најпознатија продукта су Риталин (метилфенидат) и Адерал (мешавина соли амфетамина) чија продаја расте за по 20% на годишњем ниво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52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доксално је да се дрога која се сматра високо ризичном код одраслих, прихвата као лек за децу и на узрасту од три годин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 3 до 5% деце у САД имају дијагностикован поремећај пажње што значи да у сваком разреду од 25 до 30 деце бар једно има дијагностикован АДХД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фетамини се користе као лекови првог избора у третману деце оболеле од АДХД-синдром поремећаја пажње и хиперактивности (метилфенидат , декстроамфетамин или пемолин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ако је у порасту употреба ових лекова и даље постоје контроверзе обзиром на широку примену код предшколске и школске дец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аз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илфенид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икас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виги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ж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актив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структи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ђу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бољш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аћ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матра се да су ови лекови безбедни уколико се користе у препорученим доз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жељени ефекти се огледају на плану понашања у смислу стереотипних понављајућих образаца а то укључује абнормалне покрете тела, персеверативно / компулзивно понашање, грицкање усана, лизање усана, трљање очију или лица, трзаји главом, трептање ит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(Leonard et al 2004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ђе, деца третирана амфетаминима могу имати губитак апетита и поремећаје спав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убитак апетита може бити тако озбиљан да деца престају да расту, али се сматра да се оба проблема могу контролисати давањем адекватне доз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ледњих година говори се о томе да трећина деце са АДХД има исти проблем и у одраслом добу што је такође контроверз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ХД код одраслих, наводно има другачије  карактеристике него код деце- као што су смањена продуктивност, смањен академски успех итд. што може бити повезано и са антисоцијалним понашањем, депресијом и анксиозношћ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сваком случају, оно што почиње као спорадично коришћење нпр., код студената који припремају испит - да би одржали стање будности, или код спортиста - да би повећали енергију и издржљивост, убрзо поприма своје ружно лице, обзиром да амфетамини имају озбиљан адиктивни потенција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ификација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SM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M I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ласификацији супстанце су подељене на следећих 11 кла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иоиди (опијум, морфин, хероин, меперидин, метадон, пентазоци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"/>
              </a:rPr>
              <a:t>Амфетамини и сличне материје са симпатикомиметским дејством, укључујући и кока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алуциногени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S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псилоцибин, мескали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DET, DMT, DO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P, M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слични арилциклохексиламини, укључујући кетамин,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пресори ЦНС-а (барбитурати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D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мепробамат, глутамид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набиноиди (хашиш, мариху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арљиви растварачи и деривати петролеума (ацетон, лепак, бензен, бензин, аеросоли...) и други инхаланси-азот моноксид и 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калоиди беладоне (атропин, скополамин, хоматропин, семе мака..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кох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икот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фе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Употреба у медицини -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ник користи све веће дозе да би постигао ефекат 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-а кога често описују као оргазам целог т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еља да се "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a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 поново доживи води ка сталном повећању дозе  и повећанoм ефекту кумулативне дозе што се назива 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ee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во стање траје и неколико дана,без сна и без јела и након тога се зависник „руши“ у дубок сан који може да траје и 18 с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овљен „speeding“ води до озбиљних облика зависности  или психозе која се карактерише исцрпљеношћу, продуженим сном и последично дисфоричном летаргиј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Употреба у медицини -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егална производња и продаја амфетамина  последњих пар деценија,постала је веома уносан поса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на Уједињених нација је да се годишње у свету произведе више од 500 тона амфетамина и екстаз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, претпоставља се да око 34 милиона људи злоупотребљава амфетамине или амфетамину сличне стимулансе а око 8 милиона људи злоупотребљава екста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овање амфетамина и метамфетамина је врло слично, па их и дугогодишњи конзументи тешко разлику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 је дериват фенилетиламина (супстанца која се често налази у храни-сиру,вину итд.), који се разликује по томе што има метил групу (-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у бочном ланц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ођењем метил групе спречава се деградација молекула посредовањем моноамино-оксида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различите биолошке ефекте и улази и опстаје у крвото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тил група амфетамина може бити прикачена на бочни ланац са леве и десне стране - као одраз у огледалу, тј. постоје два стереоизом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кстрогири изомер је далеко биолошки активнији од левогир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стоје многе варијације хемијске структуре амфетам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На пример, друга метил-група повезана са базичним азотом бочног ланца-представља метамфетамин који је биолошки још потентниј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Даље хемијске алтерције бензеновог прстена воде до метилен-диокси-метамфетамина познатог под именом екста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оји неограничен број комбинација и хемијских вариј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чки хемичари А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lexander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А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Shulgi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у описали 179 различитих фенилетиламина које су синтетисали и испробали на свињ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Њихови резултати су описани у књизи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Pinka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Shulgin an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Shulgi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2000.)-упркос великом доприносу овој области УС власти су забраниле рад њихове лаборатор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то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деалн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комбинациј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растворљивост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вод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мас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министрира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ир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Хемиј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29528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крвотоку остају дуго-полувреме елиминције износи 6-12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-метамфетамин остаје у крвотоку најдуже-полувреме елиминације износи 11-12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организам се уноси у различитим облиц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чин апликаци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фф-овање - назално ушмркавање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ал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халацијом пара при загревању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ентералном применом (и.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Хемијски 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 илегалном тржишту се појављује у две фор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обича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у форми пудера или комада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un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у разнобојним нијансама од беле до тамно браон боје, различите конзистенције и квалитета (на улици познат ка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o fla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hun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кристал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у форми кристалног прашка који је чист или провидан (на улици познат ка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ce, crystal, gla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Заједничко име 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МФЕТАМИН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МЕТАМФЕТАМ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ично име за кристалну форму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метамфетам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 је добио по изглед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зумира се пушењ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ј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за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род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техоламин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радрен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О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њихо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ифер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ки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иш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радренал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ршета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мпат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з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кладиш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радрена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г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ћ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авештав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ш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а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в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ивањ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ољаш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т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орис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в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форм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и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курс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осинте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радренал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ј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синџ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ал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англ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тал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љ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кинсоно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лешћ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лект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ћел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др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ш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ици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гнитив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гил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ж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доч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8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аз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гнити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тор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ив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89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Newhou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аза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рес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р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6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1640"/>
            <a:ext cx="8229600" cy="24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амат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њ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па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већ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тенц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н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тенц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пид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ч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рет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REM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з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Oswal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1968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исо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жеље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рдиоваскулар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иш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биолош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гнит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виду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гни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ж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кова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фронтал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тек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иџин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хн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лош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стирањ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ор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кључ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бољш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бј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с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пацитет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ор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горш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паците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ор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бј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ич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ћнос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ор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atta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03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ровед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94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ен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едр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лацеб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востру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еп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каза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знат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ит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ш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ит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ритмет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мишљ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алог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rinspo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dbl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75.) објашњавају субјективан опис свог стања које је дао један од учесника у истраживањ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...Мој мозак је радио веома брзо, имао сам утисак да разматра једну идеју за другом и то веома брзо. Руке су ми се знојиле. Био сам нестрпљив због свог спорог писања, а у ствари сам то чинио максимално брзо. Нисам био конфузан. Осећао сам се „инелектуално врућ“, мој мозак је јурио, осећао сам комплетну контролу над сваком секванцом мојих мисли и био сам способан и за обично размишљање. Изгледало је да је моја меморија јаснија и ефикаснија него икад. Око 10 и 30 доживео сам врхунац стимулације. Осећао сам се срећно, моћно и убрзано у сваком смислу. Уздахнуо сам дубоко, задржао дах и одупро искушењу да се смејем и да кажем свом суседу како се добро осећам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им кокаина који је природни представник групе психоактивних супстанци са стимулативним својствима, данас на нарко-тржишту постоји више хиљада врста тзв. ДИЗАЈНИРАНИХ ДРОГА - „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signer drog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 које се од класичних дрога разликују по свом порекл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 су синтетски препарати који настају модификацијама молекула познатих дрога и јефтиније су на тржиш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е су производ илегалних лабораторија и тзв."кухињских хемичара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жал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упрко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рог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спириса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поузд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тв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зулт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ен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пит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лиз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пеш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л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зултат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доз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стимуланс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виш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раст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о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онашањ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остај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св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ограничениј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онављајућ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резултирајућ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когнитивном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бихејвиоралном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ерсеверацијом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лоупотребљ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ј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петитив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вљ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чишћ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у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ортир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ал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јек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тре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тављ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ов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стављ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ређ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јемни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ато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ч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ра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и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исо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и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пети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ереотип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к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ганизов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смисл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пулз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рацион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рас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биљн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плекс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ит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ни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ус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начај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нтаз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омискуите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оститу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адомазохистич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егзибициониза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едофил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нил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рек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1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ил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рактив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омосексула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сексуал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пула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иби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одла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јакула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овољст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тива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жал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кова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шт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збиљ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ире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HIV-AID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пидем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тек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уе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упр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ни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ук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ксу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ељ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потент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На који начин амфетамини делуј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 је познато да амфетамин,бар у почетку, изазива супресију апетита-није познато о којим механизмима се рад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лексни део хипоталамуса, мала регија у бази фронталног дела мозга, контролише баланс између глади и ситости што на крају, одређује тежину те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и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з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пти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гулис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нскрип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„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в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ул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гов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ент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рес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ети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левант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алам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ети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нађ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гиј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з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аза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довољст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зм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гра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ва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љ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рова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AR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аст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рек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н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г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оректич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линич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80"/>
                </a:solidFill>
                <a:latin typeface="Arial"/>
              </a:rPr>
              <a:t>Једнократна употреб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и д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нажног ефекта задовољства –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ачане прија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полож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уфор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ачане пажњ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не заморљивост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оштрености ч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еније способности за моторне , вербалне и писане рад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ћања доброг здрављ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ња самопоузд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ње  потребе за сном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мањења апет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линич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80"/>
                </a:solidFill>
                <a:latin typeface="Arial"/>
              </a:rPr>
              <a:t>Пролонгирана употреб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и д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црпљивања енергетског капацит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ачане раздражљив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оничне несани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отен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сичног делириу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а располож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ка теж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тисоцијалних тенденциј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зв. "амфетамнске психозе" (модел параноидно-халуцинаторне психозе сличне продуктивној форми схизофреније, настале дејством супстанце на катехоламинске неурорецепторске систе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Фармак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тиш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медиц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рх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ликов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ах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бл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псу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рес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рија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енциј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т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жељ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пре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гре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ош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ра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т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ро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адају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Ectasy, China, White, X, Persian, Adam, Eve, XTC, Tang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Cra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Амфетамнск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сихоза 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де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аноид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алуцинатор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ич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уктивн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изофрен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та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техол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рецептор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920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мерне дозе могу изазвати менталну конфузију, тешку анксиозност и параноју. Дуготрајна конзумациј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 довести до физичке зависности па чак и до смр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Интоксикација</a:t>
            </a:r>
            <a:r>
              <a:rPr b="1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амфетамином</a:t>
            </a:r>
            <a:r>
              <a:rPr b="1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услед</a:t>
            </a:r>
            <a:r>
              <a:rPr b="1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предозираности</a:t>
            </a:r>
            <a:r>
              <a:rPr b="1" lang="sr-Latn-CS" sz="2000" spc="-1" strike="noStrike">
                <a:solidFill>
                  <a:srgbClr val="800080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иж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0-30 mg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видуал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тегор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итм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ћ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н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онич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вулзија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с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венту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емораг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пирекс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он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поре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ноид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хо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Пацијент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ознојен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психомоторно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агитиран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оштећеног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расуђивања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мидријатичних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зеница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боловима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грудима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претећом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респираторном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депресијом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крајњем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случају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ком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800080"/>
                </a:solidFill>
                <a:latin typeface="Arial"/>
              </a:rPr>
              <a:t>Апстиненцијални</a:t>
            </a:r>
            <a:r>
              <a:rPr b="1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800080"/>
                </a:solidFill>
                <a:latin typeface="Arial"/>
              </a:rPr>
              <a:t>синдром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карактериш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исфор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асполож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пријат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но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сомни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иперсомни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већ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пет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сихомотро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тард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/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ги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груп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ње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род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Главни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амфетам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амфетам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кстроамфетам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метамфетам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тилфенид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мо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Амфетамину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сличне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ефедр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енилпропранолами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кх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ткатин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ан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Синтетички</a:t>
            </a:r>
            <a:r>
              <a:rPr b="0" lang="sr-Latn-CS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800080"/>
                </a:solidFill>
                <a:latin typeface="Arial"/>
              </a:rPr>
              <a:t>амфетам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асификова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алуциног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ectasy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MD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"Адам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MDE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"Ева"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Елиминација и фармакокин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Ренал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екскрециј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з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ипосолуби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кскре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ромењ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лучи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Рен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кскре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ог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терминис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р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ри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исел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5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ближ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99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ониз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ломеру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ил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ост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јонизова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л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иркула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амфетаминског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редозирањ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ацидификовањ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ури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овећањ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киселост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Елиминација и фармакокин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Метаболиза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ји неколико метаболичких путева  биотрансформације амфетами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дан од начина  је ароматска хидроксилација при чему је један од најважнијих метаболита овог начина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па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хидроксимафетамин, изузетно биолошки актива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и начин је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хидроксилаци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важнији начин је процес који укључује оксигенацију азота и најважнији метаболит је бензоева кисел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Централ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оксич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и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токсич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моћ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бод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к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ктив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исеон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зо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и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ергич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ротонергич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еб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нспорте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иск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зикул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итозим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трансмит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ључ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пр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в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некроз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ндукцијом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апопт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зи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ипофил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нс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мбра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рек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тиц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ункц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тохондр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ромен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церебралн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васкул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ћ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исо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ксперимент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индук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пиз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тенз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з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ребрал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аре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ерифер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оксич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рдиоваскулар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нут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и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о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јасто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пор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ли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т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ритм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ифер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ертерм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мпатич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рен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Фармак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Амфетамин је психостимуланс који делује повећањем централне активности  путем  повећаног отпуштања (новосинтетисаних) норадреналина и допамина из пресинаптичких нервних завршетака, на који се затим суперпонира блокада преузимања већ излучених неуротрансмите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ентрал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рв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стем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ерм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рова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з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ње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поталаму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лоупотребљ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тисан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сам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халир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нзедр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иро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шир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тл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фесионалац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уден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преч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м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д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ступ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т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јетнам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рж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д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јни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г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с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ициј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г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рат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терминис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колош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п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зулт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уфориј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ише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нзивир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цијал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ициј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лоупотребљав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из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же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равенс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шмркавањ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лонгир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рмитен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зум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ни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з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виду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до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зуми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и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ера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уфорич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н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порционал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во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н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им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т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олож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кон ове фазе консолидације особа улази у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„</a:t>
            </a:r>
            <a:r>
              <a:rPr b="0" i="1" lang="en-US" sz="2200" spc="-1" strike="noStrike">
                <a:solidFill>
                  <a:srgbClr val="800080"/>
                </a:solidFill>
                <a:latin typeface="Arial"/>
              </a:rPr>
              <a:t>crash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“ фаз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која се карактерише иницијалном депресијом, агитацијом, анксиозношћу, анергијом и потребом за дрог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току ове фазе може доћи до  замора, депресије, несанице праћене интензивном потребом за сном-тако да се често посеже за алкохолом, бензодиазепинима или опијатима да би се обезбедио жељени са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25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апстиненцијалн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кри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в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есов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ол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хедо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ећ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9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 Зло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с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стиненциј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и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фаз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екстинк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нзив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ез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ст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виду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ол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им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Амфетаминс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ло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со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аноид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ран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друж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ј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но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кстрем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иса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ману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ј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ч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јат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ознал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мљичав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стан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е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д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ва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нз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ма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Амфетаминск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тва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о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рот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ећ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матр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ста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има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тера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агов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у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ифер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дн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љ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алуцин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руктурис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ману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де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секу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обухват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сту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ни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лош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медицин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енз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спек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еж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форм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отпу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поузд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а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еопход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ин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соматск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ретраг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лабораторијско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естирањ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укључујућ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супервизирано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естирањ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ур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енциј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литоксикоман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Фармак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к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лобађ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ротон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ирект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гонист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ногоброј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5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цепт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л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нижа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роз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идроксила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нзитив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з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к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ал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на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илфенид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по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овосинтетис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техолам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а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ч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не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б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ас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рак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колош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ерве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азва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ључива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лепт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ирант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венци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лап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анболнич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зор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енциј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жељ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ј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писа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јед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нс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нут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D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обр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каин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гром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о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оже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куша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уме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уробиолош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ханиз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на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стиненцијалн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секвен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сич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није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пронађе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специфичн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медикација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третману</a:t>
            </a:r>
            <a:r>
              <a:rPr b="0" lang="sr-Latn-CS" sz="2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80"/>
                </a:solidFill>
                <a:latin typeface="Arial"/>
              </a:rPr>
              <a:t>завис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тенциј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котерапи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орбидит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ав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пстиненцијал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из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ков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етма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терапиј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бихејвиора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ез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Дрога</a:t>
            </a:r>
            <a:r>
              <a:rPr b="1" lang="sr-Latn-CS" sz="2200" spc="-1" strike="noStrike">
                <a:solidFill>
                  <a:srgbClr val="ff0066"/>
                </a:solidFill>
                <a:latin typeface="Arial"/>
              </a:rPr>
              <a:t> -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Амфетамини</a:t>
            </a:r>
            <a:r>
              <a:rPr b="1" lang="sr-Latn-CS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1" lang="sr-Latn-CS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други</a:t>
            </a:r>
            <a:r>
              <a:rPr b="1" lang="sr-Latn-CS" sz="2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</a:rPr>
              <a:t>симпатикомиметиц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уд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перактивнос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ритабил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ресив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ит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аноид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зуе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ти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луц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ез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66"/>
                </a:solidFill>
                <a:latin typeface="Arial"/>
              </a:rPr>
              <a:t>Fizički efek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дриј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м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ритм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озн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вул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Третман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ез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66"/>
                </a:solidFill>
                <a:latin typeface="Arial"/>
              </a:rPr>
              <a:t>Третм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гитаци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диазепа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i.m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5-10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ахиаритми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опранол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0-20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g,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p.o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цидификаци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рина: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p.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ешк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гитаци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халоперид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-5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g i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6h.i.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ревенцију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флеш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еко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g p.o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не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алоперидо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дељ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УП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упс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би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р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уб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ј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урк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ба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х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узи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ву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долесцен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ра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ј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етио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ку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уфорич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рансцеден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стиж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ренетича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ле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упс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упск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дразумевај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ecstaz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GHB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DM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3,4-метилен-диокси-метамфетамин) познат као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stas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хемијски је сличан стимулансу амфетамину али има и халуциногена својства мескал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широј употреби је и термин „дизајниране дроге“  који сугерише ниво прецизности и специфичности који не мора бити рефлектован у крајњем продукту, жељеном састојку, али је у широкој употреб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DMA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тиса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мач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армацеутс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дустр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Merck Pharmaceutical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“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почет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12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гућ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ресор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апа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тск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ктуел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пидем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лоупотреб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страшују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е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не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лио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људс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лобод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ступ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зоре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тет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ледиц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У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диц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инич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ак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ед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30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ој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вођ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људ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стимулант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ојст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итанс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ча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Gordon Alles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интетис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стир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ињ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1928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и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ћ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клањају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мо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зводе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уфорич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фека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уд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десе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рм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зе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матра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троп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пијуна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трашпијуна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дамдесет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к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еричк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ија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ињ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сихотерапијс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руж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пеницили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ушу"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тиз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ољ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ацијент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могућа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сниц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екн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пстве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бл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17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тход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страживањ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т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85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глаш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пстанц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рапијск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ојих халуциноге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тимулативн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ојста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спе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лиц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ж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законит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руг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 процени Уједињених Нација (2003.године) широм света има више од 8 милиона регуларних корисника ове дроге ,а годишња илегална производња износи 125 то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9984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У самом почетку метилен-диоксиметамфетамин (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MDMA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) представљaо јe комбинацију метамфетамина ("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"-a) и халуциногена, а данас термин </a:t>
            </a:r>
            <a:r>
              <a:rPr b="0" i="1" lang="sr-RS" sz="2200" spc="-1" strike="noStrike">
                <a:solidFill>
                  <a:srgbClr val="000000"/>
                </a:solidFill>
                <a:latin typeface="Arial"/>
              </a:rPr>
              <a:t>ectasy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има проширено значење и обухвата следећ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MDMA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(3,4-метилен-диокси-метамфетамин-на улици познат и као "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Adam"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MDE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3,4-метилен-диокси-етиленамфетамин-на улици познат и као "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MDA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(3,4-метилен-диокси-амфетам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DOB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(2,5-диметокси-4-бромоамфетам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800" spc="-1" strike="noStrike">
                <a:solidFill>
                  <a:srgbClr val="000000"/>
                </a:solidFill>
                <a:latin typeface="Arial"/>
              </a:rPr>
              <a:t>PMA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(параметоксиамфетам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ИНТЕТИЧКЕ  Д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M (STP), DOB, MDA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DMA (ADAM, ECSTASY, X, XT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, 2C-B (NEXU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нтетичке дроге су по учинку сличне комбинацији мескалина и амфетамина (халуциногене и стимулативн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Користе се на поп и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av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” концертима те у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c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 сличним ноћним клубов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99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шире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cstas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пулар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“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креацио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луб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бар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х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јв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урк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нејџер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лад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об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сетиоц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кви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огађа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у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200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NIDA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јавил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ро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ђ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рба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бурбан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елов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ерик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ћи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ришћење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еџи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стал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фета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DM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MD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извод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цењу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екурсо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емикалиј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иперони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етилк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PMK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годишњ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и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рокријумча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вроп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чег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прав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10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милион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блет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-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чин употребе ове дроге је орални, обзиром да се најчешће налази у форми таблета, капсула и праха, а могуће га је наћи и у облику раствора за инјекциону употребу када, приликом парентералне употребе изазива тзв.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рло често се комбинује са метадоном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S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ом, опијатима, кокаином или снажним анестетицима као што је кета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CST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4:23:53Z</dcterms:created>
  <dc:creator>XP</dc:creator>
  <dc:description/>
  <dc:language>en-US</dc:language>
  <cp:lastModifiedBy>Minja</cp:lastModifiedBy>
  <dcterms:modified xsi:type="dcterms:W3CDTF">2017-01-30T23:09:07Z</dcterms:modified>
  <cp:revision>57</cp:revision>
  <dc:subject/>
  <dc:title>Slide 1</dc:title>
</cp:coreProperties>
</file>