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DADFA-90F6-4371-9771-67261253E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BE675-EFF5-485C-848C-95CAEEC178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1B8162-880D-4015-829B-370DF4D684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70A53-2319-448D-8422-9BB6457B26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B9926-0198-47B9-81EE-69D204D757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76052-B388-4F80-A60F-0040587497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9180D-4FC6-4FBA-ACD0-6FAA6CC778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08ABD-517A-435D-B943-6A98BCCE80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97565-FD80-4E82-AFE1-D0D4BF8C3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AFAAF-1DFA-49E6-B2A5-987C7731EB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2B8D3-2121-49C9-B80B-FC1B2F6482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BA139-6D39-4F2E-B8F8-78238C8B9F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6D8A6-1E9A-40AC-96BF-12C9B22661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84228-BB2A-48AA-912F-D30C0535CC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66E5F-418D-46D8-A5AA-BF9A31D325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E9109-1BFF-40AE-87BD-0C26BAFBBD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8E80E-4D58-4FF3-93C1-414A5215FA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A60AD-8351-4A1A-B3C8-F61B6D267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8FFCB-4732-4AB8-94D5-EE2F895F7E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FF0A3-5B7B-4151-851D-03B0CD4867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8676F2-98DF-4581-AA51-EEB5242460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22F74-E38B-4115-81EE-63B1963B98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3CDD8-84B5-41F1-89B2-94CDF4B50D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083ED-6831-47D9-A8A5-8A539E34B7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BDB7F-F78E-4BBB-9AAF-83DA88BBC5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B91524-7677-4514-AD4A-7FC226154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A7685-B577-4644-B5EE-46F63E8FC5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AA91A-9359-42D3-8685-37DA8BDB8C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F4685-F9C1-41C6-AA19-419DD2A62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33D57-A023-42DC-9FBB-43DCA43490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70E7C-16CA-4476-A200-E2DCF0EC6B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BB546-7AD7-4300-8846-ED6BFF68EF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C978A-213C-4291-8407-215FED7E83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CBDF6-87B5-429A-9558-0C4C8D52E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DC4B5-EA5D-4509-82E3-59A9AE96A6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AF108-0E31-4D07-8069-7EF5474157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BEB50-FFE3-489B-A79C-3CEC37E7C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72C44-6C67-4807-9B96-B72A3F5FCA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05106-2DBD-49D9-B7FB-F078125A7E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8AD71-9C0C-4686-8073-62CF215018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59F-B428-46BD-A7D8-7FF0962C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ECD-6763-4E70-84D8-D7C48843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1C0-1BCD-4A2C-A7A0-7CD0C4C6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4C08-B667-41D0-8712-B2D412F1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8C3B-06E7-4AB5-86A6-92F398A9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B849-0CC8-403E-AB14-4170566F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8DF-C00A-4EA5-908C-05C2887E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4C9B-4FA6-476A-8B6B-F21AFB1C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ECEC-8C4B-4FB4-9B39-AE3411D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837-E982-4911-81E7-C5EA27CB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1DF1-B76A-4725-ACB6-4AF94AAC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2E3-F169-464A-A659-FFE7AC5C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EEFB-DCCA-4CF8-9FF1-DAE56D4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0D6-05CD-4DD7-AEA2-D341C300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CD78-713D-4FBA-B951-1D4A8068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FA08-BFBD-474F-8178-C0FC9ED3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59D5-83B7-489A-839B-3C65AEF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4C85-3112-43EC-9B17-98D66030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A95F-3ECF-4543-9B80-D2C0C00E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E26B0-2AED-4DF4-A2FF-0F2454C7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9EFF-7C30-437A-8EE3-C32DDE35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A67DA-0A22-4A9B-BB45-D550DDD6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748-38CF-490A-BB87-AE700C07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6357-431E-4448-B18E-1330335A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FE15-8A1B-48DD-9F69-81CD700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C7EE-BFFB-4F67-A119-D7F8FEF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8C14D-1C9C-4BEE-81F1-E8FDC02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2B67-D7B0-49D7-8A47-EC7DB862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057E-B769-438C-BF08-9F29BBBF1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EADD-1B4E-4D78-A574-4D686CA8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0C59-1A1B-488E-A790-24C977F5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A277-839E-4E2C-BE62-A76D3554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1C12C-EF4B-4A1C-8E7A-BC670CE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6525-0121-48E9-BCA6-411EE36C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2E1E-5302-42B2-846C-5D2D0915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20D08-920D-4F97-8ADB-74CCF719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22F65-1337-497A-B3CC-A59F2A8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D1DE-6DAD-4E5C-B697-6B8727E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974EB-8781-44EE-964A-D85A469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2FCF3-D5D0-4064-A233-7DBF2C8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D9FF-98A6-4C94-82B6-5546F579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7C991-B03B-4795-88FF-16C5FBD1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DA5E-B551-46B1-9887-D1312206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3F07-2C2D-4EB5-B60A-1EDEC6AE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634E-AD33-4F89-A26A-2FD49CDD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88AF0-26E0-4E6A-BE2A-D8109C4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3BFEC-7CBF-4E73-B402-4D28A435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8318F-C6F3-4B38-A749-CE57AD2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AFA21-D0B2-44DC-A151-8D294A1E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0F873-FFFC-4485-927D-B582FF66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FD8D-E19A-4195-9497-5B1A88E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AE04E-E550-46E5-B037-E94394F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E10B3-1F95-4924-BA52-A501D9A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A0F8-1E9D-4013-84B4-8904D91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4740-97B5-43AE-9CEE-F242BD76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5BD-E33A-406A-A2C0-CF1DAD8D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41E55-85E9-42C3-98EB-824B4964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A6411-5E0F-4E81-893F-8EA17357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22BE-1183-48D6-82B4-756CF5D5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E165E-4EA7-49AE-90B8-55F6A5A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53034-CB0E-4851-952A-6D8F2FE1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F7896-7C07-4681-BEF3-267B9FB3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3EAC-9F0E-4617-8395-DA9FBD7B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12E0-2C50-47EB-A2C2-99AE084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2AF71-604D-455F-8F15-B4F6B8D1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F7012-8620-4566-BBC1-DEE210EF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25A-3556-4970-ACD4-2EE88B7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1BCD-B8A6-4016-90BB-359507B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D9A6D-F7CE-4FBF-9D10-55CD8194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AAEEC-E19D-46E7-A003-562E2D0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72A-A1E8-44EB-8C9B-80B1283D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FCE-36B8-4E8C-887E-972E03BA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81C472-9E32-4F66-8AEA-A5295675F85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E8B68-47EC-4430-8809-02C0EBBDDF5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3285E-4A23-4C1E-835D-CDBF3AC0901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9ED94-8FAF-4AE2-866E-957FAC4C86D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D9156-C6FF-470A-AB9C-D0674D2A0C1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A3398-2205-4162-B513-3DB825A5E70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d0d0d"/>
                </a:solidFill>
                <a:latin typeface="Calibri"/>
              </a:rPr>
              <a:t>ПРИНЦИПИ ДЕЛОВАЊА ПСИХОСТИМУЛАТИВНИХ СУПСТАНЦИ</a:t>
            </a:r>
            <a:endParaRPr b="0" lang="en-US" sz="36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d0d0d"/>
                </a:solidFill>
                <a:latin typeface="Calibri"/>
              </a:rPr>
              <a:t>Проф др Мирјана Јовановић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4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ва научна студија о амфетамину урађена је 1935.године од стране М.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athanson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кара из Лос Анђелес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пстанцу је тестирао на 55 младих медицинских радника дајући им по 20мг Бензендрин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а најчешће описивана ефекта била су „осећање благостања и осећај усхићења“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ензедрин (ДЛ-амфетамин) , представљан је као лек за многе болест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коро је слична студија рађена и у Данској 1938.године када је тестирана на 100 субјеката и истраживачи су били импресионирани појачаном жељом субјеката да раде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и број је говорио о нежељеним ефектима и то углавном органске природе као што су испади периферног нервног система, укључујући сува уста,палпитације, главобоља и слабост мишић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5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пак, убрзо је амфетамин са различитим варијацијама сродних хемикалија нашао своје место на тржишту као супресор апетита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рвог случаја амфетаминске психозе ( 1938. године ) почиње се са размишљањем о штетним последицама и зависности насталој употребом амфетамин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а везана за третман гојазности- комбинација амфетамина и фенфлурамина завршила се трагично шездесетих и седамдесетих година прошлог века -хиљадама превремених смрти и оштећења срца и покренула је највећи број приватних тужби у историји фармацеутских компаниј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1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соке дозе амфетамина воде привременој психози која подсећа на схизофрену епизоду у много аспекат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паминска хипотеза указује на то да су и дрогом-индикована психоза и схизофрена психоза повезане са ексцесивним ослобађањем хемијског месинџера допамина у мозгу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ипсихотици делују обрнуто-блокирају активност допамин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4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САВРЕМЕНА 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 медицинска употреба амфетамина опада последњих година, драматично расте код деце која болују од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H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ва најпознатија продукта су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itali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метилфенидат) и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deral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мешавина соли амфетамина) чија продаја расте за по 20% на годишњем нивоу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07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доксално је да се дрога која се сматра високо ризичном код одраслих, прихвата као лек за децу и на узрасту од три године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 3 до 5% деце у САД имају дијагностикован поремећај пажње што значи да у сваком разреду од 25 до 30 деце бар једно има дијагностикован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H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и се користе као лекови првог избора у третману деце оболеле од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DH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синдром поремећаја пажње и хиперактивности (метилфенидат , декстроамфетамин или пемолин)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ако је у порасту употреба ових лекова и даље постоје контроверзе обзиром на широку примену код предшколске и школске деце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3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тра се да су ови лекови безбедни уколико се користе у препорученим дозам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жељени ефекти се огледају на плану понашања у смислу стереотипних понављајућих образаца а то укључује абнормалне покрете тела , персеверативно / компулзивно понашање, грицкање усана, лизање усана, трљање очију или лица, трзаји главом, трептање итд.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eonard et a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2004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6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ЕФЕКТИ НАКОН УЗИМАЊ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висник користи све веће дозе да би постигао ефекат „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s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“-а кога често описују као оргазам целог те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ља да се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as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ново доживи води ка сталном повећању дозе и повећаном ефекту кумулативне дозе што се назива „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eedin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“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во стање траје и неколико дана,без сна и без јела и након тога се зависник „руши“ у дубок сан који може да траје и 18 са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новљен „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eeding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“ води до озбиљних облика зависности или психозе која се карактерише исцрпљеношћу, продуженим сном и последично дисфоричном летаргијом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ПСИХОАКТИВНЕ СУПСТАНЦЕ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основним карактеристикама деловања у иницијалној фази све супстанце можемо поделити на оне са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седативним и у фармаколошком смислу- депресивним дејством (барбитурати,опијати,етил алкохол,БДЗ ).</a:t>
            </a:r>
            <a:br>
              <a:rPr sz="2400"/>
            </a:b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стимулативним деловањем ( амфетамин,кокаин,ПЦП )</a:t>
            </a:r>
            <a:br>
              <a:rPr sz="2400"/>
            </a:b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психотомиметике ( халуциногени,канабиноиди 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е групе супстанци се међусобно разликују по деловању на сензоријум,моторику,емоционалност и доживљај спољашње реалности,али у основном процесу формирања зависности,ангажују исте,неспецифичне механизме из постојећег система организације,мотивације и понашања(норадренергичке,допаминергичке,опиоидне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7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amph1 copy"/>
          <p:cNvPicPr/>
          <p:nvPr/>
        </p:nvPicPr>
        <p:blipFill>
          <a:blip r:embed="rId1"/>
          <a:srcRect l="0" t="0" r="11113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449640" y="5384880"/>
            <a:ext cx="598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Деловање амфетамина и метамфетамина је врло слично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тако да их и конзументи тешко разликују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2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РАСТВОРЉИВОСТ АМФЕТАМИН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и имају готово идеалну комбинацију растворљивости у води и мастима што значи да могу бити администрирани на различите начине и врло брзо продиру у централни нервни систем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5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МЕТАБОЛИЗАМ АМФЕТАМИН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крвотоку остају дуго-полувреме елиминције износи 6-12ч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-метамфетамин остаје у крвотоку најдуже-полувреме елиминације износи 11-12ч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рганизам се уноси у различитим облицима. Начин апликације: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niff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овање - назално ушмркавање, орално,инхалацијом пара при загревању и парентералном применом ( и.в 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2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ОБЛИЦИ АМФЕТАМИН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легалном тржишту се појављује у две форме:</a:t>
            </a:r>
            <a:br>
              <a:rPr sz="2000"/>
            </a:br>
            <a:r>
              <a:rPr b="0" lang="ru-RU" sz="2000" spc="-1" strike="noStrike">
                <a:solidFill>
                  <a:srgbClr val="bc0aaf"/>
                </a:solidFill>
                <a:latin typeface="Calibri"/>
              </a:rPr>
              <a:t>обича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 форми пудера или комада 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un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у разнобојним нијансама од беле до тамно браон боје,различите конзистенције и квалитета ( на улици познат као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ee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zi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o flash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hunk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bc0aaf"/>
                </a:solidFill>
                <a:latin typeface="Calibri"/>
              </a:rPr>
              <a:t>кристал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у форми кристалног прашка који је чист или провидан ( на улици познат као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c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usta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las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1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ICE"/>
          <p:cNvPicPr/>
          <p:nvPr/>
        </p:nvPicPr>
        <p:blipFill>
          <a:blip r:embed="rId1"/>
          <a:srcRect l="0" t="8499" r="5512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2362320" y="380880"/>
            <a:ext cx="6476760" cy="91476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ce” 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је улично име за кристалну форму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метамфетамина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Име је добио по изгледу-конзумира се пушењем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НА КОЈИ НАЧИН ДЕЛУЈУ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и су хемијски повезани са природним катехоламинима као што су норадреналин и допамин.Они утичу на њихово ослобађањ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периферним ткивима амфетамини стимулишу ослобађање норадреналина из нервних завршетака симпатичког нервног систем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7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НА КОЈИ НАЧИН ДЕЛУЈУ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рвне ћелије у мозгу које складиште и ослобађају норадреналин ,играју различите улоге као што је, на пример , помоћ у обавештавању виших центара о новим збивањима у спољашњем свету као и меморисању нових информација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лиска супстанца допамин је прекурсор у биосинтези норадреналина али је такође и хемијски месинџе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лобађање допамина у базалној ганглији игра виталну улогу у контроли вољних покрета . Пацијенти са Паркинсоновом болешћу имају селективни губитак ћелија које садрже допамин и тешко иницирају покре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фетамини делују на когнитивне функције,пре свега на пажњу тј. на вигилност пажње и о томе сведочи чак 8 од 12 студија 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Koelega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,1993.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3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е студије указују да до поремећаја когнитивних и моторних функција долази због депривације спавања коју амфетамин изази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е из 1989. године 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ewhous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оказало је да супресија спавања са већим дозама амфетамина може да се одржи и до 60 сати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6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фетамини драматично смањују поспаност,повећавају латенцу уснивања и латенцу појаве рапидних очних покрета- РЕМ фазу (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swald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1968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ђе,високе дозе амфетамина доводе до нежељених ефеката на кардиоваскуларном систему (тахикардија и повишење крвног притиска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4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КЛАСИФИКАЦИЈ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DSM-IV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ласификацији супстанце су подељене на следећих 11 класа: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Опиоиди ( опијум,морфин,хероин,меперидин,метадон,пентазоцин )</a:t>
            </a:r>
            <a:br>
              <a:rPr sz="1900"/>
            </a:br>
            <a:r>
              <a:rPr b="0" lang="sr-CS" sz="1900" spc="-1" strike="noStrike">
                <a:solidFill>
                  <a:srgbClr val="bc0aaf"/>
                </a:solidFill>
                <a:latin typeface="Calibri"/>
              </a:rPr>
              <a:t>2.Амфетамини и сличне материје са симпатикомиметским дејством,укључујући и кокаин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Халуциногени ( ЛСД,псилоцибин,мескалин,ДЕТ,ДМТ,ДОМ или СТП,МДА )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ПЦП и слични арилциклохексиламини,укључујући кетамин,ТЦП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5.Депресори ЦНС-а ( барбитурати,БДЗ,мепробамат,глутамид )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6.Канабиноиди ( хашиш,марихуана )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7.Испарљиви растварачи и деривати петролеума (ацетон,лепак,бензен,бензин,аеросоли...) и други инхаланси-азот моноксид и сл.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8.Алкалоиди беладоне ( атропин,скополамин,хоматропин,семе мака...)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9.Алкохол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0.Никотин</a:t>
            </a:r>
            <a:br>
              <a:rPr sz="1900"/>
            </a:b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1.Кофеин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ем имиџинг техника и психолошким тестирањима радне меморије дошло се до закључка да Д-амфетамин побољшава функцију мозга само код субјеката са релативно ниским радним капацитетом меморије на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aselin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у али да погоршава капацитет меморије код субјеката са базично већим могућностима радне меморије (Ма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tay 2003.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 које злоупотребљавају амфетамине развијају многа репетитивна понашања као што је понављано прање кола,чишћење куће,сортирање малих објеката,потреба за растављањем и поновним састављањем уређаја као што су радио-пријемници ,сатови или друге механичке направе ..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5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amph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347920" y="52974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254960" y="5457960"/>
            <a:ext cx="596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mfetamin stimulira CNS i izaziva euforiju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rekomerna doza može pak izazvati  jak osećaj panike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ВРСТЕ АМФЕТАМИН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стоје три групе амфетамина и њему сродних супстанци: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Главни амфетамини -амфетамин , декстроамфетамин ,метамфетамин, метилфенидат, пемолин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Амфетамину сличне супстанце -ефедрин , фенилпропраноламин ,кхат и меткатинон ( кранк )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Синтетички амфетамини ( класификовани као халуциногени )-ецтас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y (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ДМА, » Адам «) , МДЕА ( « Ева « 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2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ЕЛИМИНАЦИЈ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нална екскреција: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фетамин је базна , високо липосолубилна супстанца , и примарни начин екскреције је непромењено излучивање преко бубрег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нална екскреција је строго детерминисана са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рина.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 урином који има оповећану киселост,напр.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5, приближно 99% дозе амфетамина се јонизује путем гломерулне филтрације и само преостали нејонизовани део одлази у циркулацију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ма томе, третман амфетаминског предозирања је ацедификовање урина ( повећање киселости 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5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ТОКСИЧНОСТ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0aaf"/>
                </a:solidFill>
                <a:latin typeface="Calibri"/>
              </a:rPr>
              <a:t>Централна токсичнос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азива неуротоксичност уз помоћ слободних радикала-реактивног кисеоника и азот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 продире у допаминергичке или серотонергичке неуроне преко посебног транспортера и потискује везикуларни и цитозимски неуротрансмитер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8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ТОКСИЧНОСТ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c0aaf"/>
                </a:solidFill>
                <a:latin typeface="Calibri"/>
              </a:rPr>
              <a:t>Периферна токсичност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рдиоваскуларни ефекти деловања амфетамина су тренутн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 подиже систолни и дијастолни крвни притисак и успорава рад срца-ипак код великих доза амфетамина нису ретке тахикардија и аритмиј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ође , доводе и до периферне хипертермије путем активације симпатичко-адреналног систем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ЗЛОУПОТРЕБА И ЗАВИСНОСТ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ролонгиране интермитентне конзумације- корисник открива да веће дозе производе веће ефекте и индивидуа почиње редовно да конзумира веће доз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иста, пре развоја толеранције , еуфорични ефекти стимуланса пропорционални су плазма нивоима амфетамин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вој фази особа понавља често узимање дроге,тако да долази до честих промена расположења 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ТРЕТМАН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обухватан приступ особи која је зависник од амфетамина са психолошког,медицинског и форензичког аспекта може бити отежан,због тога што су информације често непотпуне или непоузда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ваком случају,неопходно је учинити соматске претраге, лабораторијско тестирање укључујући и супервизирано тестирање урина на дроге због потенцијалне политоксикоманиј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mph3 copy"/>
          <p:cNvPicPr/>
          <p:nvPr/>
        </p:nvPicPr>
        <p:blipFill>
          <a:blip r:embed="rId1"/>
          <a:srcRect l="13333" t="12140" r="6669" b="38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-68040" y="304920"/>
            <a:ext cx="734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8000" spc="-1" strike="noStrike">
                <a:solidFill>
                  <a:srgbClr val="ff0000"/>
                </a:solidFill>
                <a:latin typeface="Staccato222 BT"/>
              </a:rPr>
              <a:t>Амфетамини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120960" y="4068720"/>
            <a:ext cx="74638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</a:rPr>
              <a:t>Заједничко име за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Staccato222 BT"/>
              </a:rPr>
              <a:t>Амфетамин и метамфетамин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4" name="Audio 1" descr=""/>
          <p:cNvPicPr/>
          <p:nvPr/>
        </p:nvPicPr>
        <p:blipFill>
          <a:blip r:embed="rId2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СТИМУЛАНС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им кокаина који је природни представник групе психоактивних супстанци са стимулативним својствима, данас на нарко-тржишту постоји више хиљада врста тзв.ДИЗАЈНИРАНИХ ДРОГА- „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igner drug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“ које се од класичних дрога разликују по свом пореклу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су синтетски препарати који настају модификацијама молекула познатих дрога и јефтиније су на тржишту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е су продукт илегалних лабораторија и тзв.“ кухињских хемича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7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АМФЕТАМИНИ-КАРАКТЕРИСТИКЕ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Синтетишу се у немедицинске сврхе,а обликоване су у форми праха, таблета или капсула и имају стимулативно али и депресивно дејство.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сто имају непријатне и потенцијално леталне нежељене ефекте, а ако се у некој фази припреме супстанца прегреје или лошије обради добија се летални отр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ве супстанце спадају </a:t>
            </a:r>
            <a:r>
              <a:rPr b="0" lang="sr-Latn-CS" sz="2000" spc="-1" strike="noStrike">
                <a:solidFill>
                  <a:srgbClr val="000000"/>
                </a:solidFill>
                <a:latin typeface="Tw Cen MT"/>
              </a:rPr>
              <a:t>Ectasy, China, White, X, Persian, Adam, Eve, XTC, Tango&amp;Crac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0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ФАРМАКОЛОГИЈА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фетамин је психостимуланс који делује повећањем централне активности путем повећаног отпуштања( новосинтетисаних ) норадреналина и допамина из пресинаптичких нервних завршетака, на који се затим суперпонира блокада преузимања већ излучених неуротрансмитер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3" name="Audio 2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ФАРМАКОЛОГИЈА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већим дозама индукује и ослобађање серотонина,а има и директан агонистички ефекат на неке од многобројних 5-ХТ рецептор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лике дозе амфетамина такође снижавају активност тирозин-хидроксилаз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и синтеза-сензитивни механизми разликују код осталих стимуланаса , као што су метилфенидат и кокаин, који делују кроз депое, а не на новосинтетисане катехоламине , какав је случај код амфетамин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6" name="Audio 3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d0d0d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клиничку праксу амфетамин је уведен раних 30-их година 20. век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ојна истраживања деловања амфетамина извођена су како на животињама,тако и на људим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стимулантна својства амфетамина открио је британски хемичар Гордон Алес који је супстанцу синтетисао и тестирао на животињама али и на себи (1928.године)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ло брзо је открио да амфетамин моћно делује уклањајући замор и производећи еуфорични ефекат и будност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9" name="Audio 1" descr=""/>
          <p:cNvPicPr/>
          <p:nvPr/>
        </p:nvPicPr>
        <p:blipFill>
          <a:blip r:embed="rId1"/>
          <a:stretch/>
        </p:blipFill>
        <p:spPr>
          <a:xfrm>
            <a:off x="8504280" y="6218280"/>
            <a:ext cx="487440" cy="487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1:33:51Z</dcterms:created>
  <dc:creator>Minja</dc:creator>
  <dc:description/>
  <dc:language>en-US</dc:language>
  <cp:lastModifiedBy>Minja</cp:lastModifiedBy>
  <dcterms:modified xsi:type="dcterms:W3CDTF">2021-04-11T13:02:47Z</dcterms:modified>
  <cp:revision>16</cp:revision>
  <dc:subject/>
  <dc:title>Принципи деловања психостимулативних супстанци</dc:title>
</cp:coreProperties>
</file>